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34D3-0C38-4BAC-BC0C-2E7761E9D5A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0E45-D629-4A59-B986-F64D3549C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I not autogene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I not autogene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2C53-DE99-4F60-AC12-B6D94B5A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9346-468F-4609-84E6-46F66B09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C74A-8F76-47D3-8678-1862D6A6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10D6-DB12-41FD-990C-72BF880AF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E97C-C422-4812-A381-29420D89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3AB1-4A5C-4207-80F9-4512E33E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8364-3082-4033-BC9D-F9A02DB3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32C4-614D-461D-A127-C2FC002E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AA11-CB14-4B51-8069-90584816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C3AD-0C7B-4837-9059-8ACBC9C8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7641-7EEA-40E9-ADCC-55965CB4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5F18-08CD-46BC-9A9C-89BC4E13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D252-15D6-456A-84B0-8705B375C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1219320"/>
            <a:ext cx="8381880" cy="2209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ware: Its latest development using Moose and Bio::Chado::Sch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dhartha Ba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cty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dictybas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 for Genetic 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thwestern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34"/>
          <p:cNvSpPr/>
          <p:nvPr/>
        </p:nvSpPr>
        <p:spPr>
          <a:xfrm>
            <a:off x="914400" y="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Web application(Literature cu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35"/>
          <p:cNvSpPr/>
          <p:nvPr/>
        </p:nvSpPr>
        <p:spPr>
          <a:xfrm>
            <a:off x="385920" y="60948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066680"/>
            <a:ext cx="8305920" cy="5181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34"/>
          <p:cNvSpPr/>
          <p:nvPr/>
        </p:nvSpPr>
        <p:spPr>
          <a:xfrm>
            <a:off x="91440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Command line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35"/>
          <p:cNvSpPr/>
          <p:nvPr/>
        </p:nvSpPr>
        <p:spPr>
          <a:xfrm>
            <a:off x="385920" y="68580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447920"/>
            <a:ext cx="731520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blication(from pubm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ort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ort ontology(obo f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ort GAF 1.0/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ort GA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34"/>
          <p:cNvSpPr/>
          <p:nvPr/>
        </p:nvSpPr>
        <p:spPr>
          <a:xfrm>
            <a:off x="914400" y="76320"/>
            <a:ext cx="7086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Experimental builder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35"/>
          <p:cNvSpPr/>
          <p:nvPr/>
        </p:nvSpPr>
        <p:spPr>
          <a:xfrm>
            <a:off x="380880" y="609480"/>
            <a:ext cx="822492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1219320"/>
            <a:ext cx="72392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package Modware::Publication::Pubm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use Modware::Cha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Arial"/>
              </a:rPr>
              <a:t>bcs_resultset ‘Pub::Pub’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Arial"/>
              </a:rPr>
              <a:t>chado_has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$_ for qw/title pages issue volume/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hado_has ‘pub_id’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  =&gt; (column =&gt; ‘primary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hado_has ‘year’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  =&gt; (column =&gt; ‘pyear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hado_has ‘pubmed_id’     =&gt; (column =&gt; ‘uniquename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1143000"/>
            <a:ext cx="716256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Arial"/>
              </a:rPr>
              <a:t>chado_typ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‘type’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    =&gt; (cv =&gt; ‘pub_type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Arial"/>
              </a:rPr>
              <a:t>chado_property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‘abstract’    =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cv =&gt; ‘pub_type’, cvterm =&gt; ‘pub_abstract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hado_has_many ‘authors’  =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class =&gt; ‘Modware::Publication::Author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62120" y="1143000"/>
            <a:ext cx="716256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Arial"/>
              </a:rPr>
              <a:t>chado_typ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‘type’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    =&gt; (cv =&gt; ‘pub_type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Arial"/>
              </a:rPr>
              <a:t>chado_property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‘abstract’    =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cv =&gt; ‘pub_type’, cvterm =&gt; ‘pub_abstract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hado_has_many ‘authors’  =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class =&gt; ‘Modware::Publication::Author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38080" y="1676520"/>
            <a:ext cx="7543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package Modware::Chado::Stoc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use Modware::Cha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bcs_resultset ‘Stock::Stoc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hado_dbxref   ‘id’ =&gt; (db =&gt; ‘Stock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hado_belongs_to ‘organism’ =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class =&gt; ‘Modware::Chado::Organism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34"/>
          <p:cNvSpPr/>
          <p:nvPr/>
        </p:nvSpPr>
        <p:spPr>
          <a:xfrm>
            <a:off x="914400" y="22860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Proje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35"/>
          <p:cNvSpPr/>
          <p:nvPr/>
        </p:nvSpPr>
        <p:spPr>
          <a:xfrm>
            <a:off x="385920" y="76212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447920"/>
            <a:ext cx="830592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://github.com/cybersiddhu/Mo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://gmod.org/wiki/Mo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mod-ware-users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34"/>
          <p:cNvSpPr/>
          <p:nvPr/>
        </p:nvSpPr>
        <p:spPr>
          <a:xfrm>
            <a:off x="914400" y="763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Related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35"/>
          <p:cNvSpPr/>
          <p:nvPr/>
        </p:nvSpPr>
        <p:spPr>
          <a:xfrm>
            <a:off x="380880" y="685800"/>
            <a:ext cx="822492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16765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jolicious::Plugin::Caching (in CP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search.cpan.org/dist/Mojolicious-Plugin-Cac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jolicious::PluginBun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AMLConf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ware::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tTagHel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github.com/cybersiddhu/Mojolicious-PluginBun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09120" y="990360"/>
            <a:ext cx="3505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cty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x Chisho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ren Kib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ic J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ulia Bushman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tra F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scale Gaud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b Dod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990720" y="763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54321"/>
                </a:solidFill>
                <a:latin typeface="Arial"/>
                <a:ea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"/>
          <p:cNvSpPr/>
          <p:nvPr/>
        </p:nvSpPr>
        <p:spPr>
          <a:xfrm>
            <a:off x="533520" y="68580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1692360"/>
            <a:ext cx="396216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S(Bio::Chado::Schema)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p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MO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6212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M for chado/biological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des chado specific storage det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nk about Gene/Protein, Alignment, Publication, Ontology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arch/Finder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versal API between biological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tibility with other API(e.g bioper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command line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of MVC web applications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alyst/Mojo/Dancer et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34"/>
          <p:cNvSpPr/>
          <p:nvPr/>
        </p:nvSpPr>
        <p:spPr>
          <a:xfrm>
            <a:off x="380880" y="22860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54321"/>
                </a:solidFill>
                <a:latin typeface="Arial"/>
                <a:ea typeface="Arial"/>
              </a:rPr>
              <a:t>Modware - </a:t>
            </a: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Chado</a:t>
            </a:r>
            <a:r>
              <a:rPr b="1" lang="en-US" sz="2200" spc="-1" strike="noStrike">
                <a:solidFill>
                  <a:srgbClr val="654321"/>
                </a:solidFill>
                <a:latin typeface="Arial"/>
                <a:ea typeface="Arial"/>
              </a:rPr>
              <a:t> middle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35"/>
          <p:cNvSpPr/>
          <p:nvPr/>
        </p:nvSpPr>
        <p:spPr>
          <a:xfrm>
            <a:off x="385920" y="76212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520" y="10663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ted with Class::DBI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release of Class::DBI module (4 years ba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tes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ed with dictyBase data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er on Bio::Chado::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ose for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ation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34"/>
          <p:cNvSpPr/>
          <p:nvPr/>
        </p:nvSpPr>
        <p:spPr>
          <a:xfrm>
            <a:off x="380880" y="22860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54321"/>
                </a:solidFill>
                <a:latin typeface="Arial"/>
                <a:ea typeface="Arial"/>
              </a:rPr>
              <a:t>Modware - Chado middle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35"/>
          <p:cNvSpPr/>
          <p:nvPr/>
        </p:nvSpPr>
        <p:spPr>
          <a:xfrm>
            <a:off x="385920" y="68580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34"/>
          <p:cNvSpPr/>
          <p:nvPr/>
        </p:nvSpPr>
        <p:spPr>
          <a:xfrm>
            <a:off x="914400" y="76320"/>
            <a:ext cx="7086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4321"/>
                </a:solidFill>
                <a:latin typeface="Arial"/>
                <a:ea typeface="Arial"/>
              </a:rPr>
              <a:t>Modware Data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35"/>
          <p:cNvSpPr/>
          <p:nvPr/>
        </p:nvSpPr>
        <p:spPr>
          <a:xfrm>
            <a:off x="380880" y="609480"/>
            <a:ext cx="822492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762120"/>
            <a:ext cx="8628120" cy="55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600" spc="-1" strike="noStrike">
                <a:solidFill>
                  <a:srgbClr val="3300ff"/>
                </a:solidFill>
                <a:latin typeface="Arial"/>
                <a:ea typeface="Arial"/>
              </a:rPr>
              <a:t>use aliased ‘Modware::DataSource::Chado’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Chado-&gt;connect(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dsn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=&gt; ‘dbi:Pg:database=mymod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use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=&gt; ‘user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password  =&gt; ‘password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Chado-&gt;connect(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dsn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=&gt; ‘dbi:Oracle:sid=mymod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use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=&gt; ‘user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password  =&gt; ‘password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attr             =&gt; { AutoCommit =&gt; 1, LongTruncOk =&gt; 1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Chado-&gt;connect( dsn =&gt; ‘dbi:SQLite:database=mydb.sqlite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et/Set through Bio::Chado::Schema(BC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my $bcs = Chado-&gt;handl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Chado-&gt;handler(Bio::Chado::Schema-&gt;connect($dsn,$user,$pass,$attr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34"/>
          <p:cNvSpPr/>
          <p:nvPr/>
        </p:nvSpPr>
        <p:spPr>
          <a:xfrm>
            <a:off x="914400" y="76320"/>
            <a:ext cx="7086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CRUD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5"/>
          <p:cNvSpPr/>
          <p:nvPr/>
        </p:nvSpPr>
        <p:spPr>
          <a:xfrm>
            <a:off x="385920" y="60948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838080"/>
            <a:ext cx="7848720" cy="55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use Modware::Publication::Pubme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use Modware::Publication::Author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my $pub = Modware::Publication::Pubmed-&gt;new 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year     =&gt; 201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tatus  =&gt; ‘published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cv        =&gt;  ‘pub_type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pubmed_id(332228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journal(‘JBC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abstract(‘This is a cool abstarct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title(‘Charming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add_author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Modware::Publication::Author-&gt;new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irst_name =&gt; ‘Larry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last_name =&gt; ‘Johnson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initials       =&gt; ‘Mr.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152280"/>
            <a:ext cx="7315200" cy="63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my $new_pub = $pub-&gt;sav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new_pub-&gt;add_author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{    first_name =&gt; ‘Jerry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last_name =&gt; ‘Seinfeld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initials        =&gt; ‘Mr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uffix         =&gt; ‘Jr.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}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medline_id(127820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full_text_url(‘http://journal.org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title(‘Charming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$new_pub-&gt;sav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new_pub-&gt;dele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CS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my $bcs = $new_pub-&gt;dbr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34"/>
          <p:cNvSpPr/>
          <p:nvPr/>
        </p:nvSpPr>
        <p:spPr>
          <a:xfrm>
            <a:off x="914400" y="0"/>
            <a:ext cx="7086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Finder/Search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35"/>
          <p:cNvSpPr/>
          <p:nvPr/>
        </p:nvSpPr>
        <p:spPr>
          <a:xfrm>
            <a:off x="385920" y="53352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457200"/>
            <a:ext cx="8229600" cy="59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rieve singl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 = Modware::Chado::Publication-&gt;find(2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 = Modware::Chado::Publication-&gt;find_by_pubmed_id(3229830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rieve multipl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@pubs = Modware::Chado::Publication-&gt;search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irst_name =&gt; ‘Harry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last_name =&gt; ‘Williams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journal       =&gt; ‘EMBO journal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itr = Modware::Chado::Publication-&gt;search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irst_name =&gt; ‘Harry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last_name =&gt; ‘Williams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journal       =&gt; ‘EMBO journal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while(my $pub = $itr-&gt;nex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tit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journ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480" y="228600"/>
            <a:ext cx="822960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@authors = $pub-&gt;authors;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or my $author(@author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author-&gt;first_na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c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count = Modware::Chado::Publication-&gt;count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irst_name =&gt; ‘Harry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last_name =&gt; ‘Williams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journal       =&gt; ‘EMBO journal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s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Modware::Chado::Publication-&gt;search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%option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cond =&gt; { clause =&gt; ‘OR’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 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Modware::Chado::Publication-&gt;search( title =&gt; ‘genomics*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34"/>
          <p:cNvSpPr/>
          <p:nvPr/>
        </p:nvSpPr>
        <p:spPr>
          <a:xfrm>
            <a:off x="914400" y="7632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Web application (List of publ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35"/>
          <p:cNvSpPr/>
          <p:nvPr/>
        </p:nvSpPr>
        <p:spPr>
          <a:xfrm>
            <a:off x="385920" y="68580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1143000"/>
            <a:ext cx="8534160" cy="5105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21:33:32Z</dcterms:created>
  <dc:creator>Eric Just</dc:creator>
  <dc:description/>
  <dc:language>en-US</dc:language>
  <cp:lastModifiedBy>Siddhartha Basu</cp:lastModifiedBy>
  <dcterms:modified xsi:type="dcterms:W3CDTF">2011-03-06T17:30:36Z</dcterms:modified>
  <cp:revision>312</cp:revision>
  <dc:subject/>
  <dc:title>Slide 1</dc:title>
</cp:coreProperties>
</file>